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2117-F366-47A0-8121-79B058C8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101-78DE-4E32-B6E4-5C3D4AB8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7E9-C479-4216-B17D-5F3B5BDC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5C38-78EC-44D1-9D94-8D48F984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248E-C53A-4D8A-AADD-6372290F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A9C1-9816-43E9-BD41-E54FF3EB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EC00-FAA5-4440-938E-43089F42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2459-7653-4E91-9797-FA9E0171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47F2-F120-4418-8BB8-F317DFC2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D200-2C50-49B2-901E-34F16BCA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ABAC0-DC46-43AC-A2D0-28EFE188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737-2528-471C-A5CD-EAB70BC1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F327-6C21-41E3-BC1A-4D0F4C84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A171-94CC-4000-97B0-8097AAF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39BF-BBEF-4BB1-86D2-36689E7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39AE-C6C1-4FE4-8998-53726A47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6E52-B945-4DDF-966A-7C3E38A1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8799-040E-45CD-92FA-E477A3E8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928-823E-4600-8700-5479251D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96D-5C9F-4B4B-8B0A-38E9FFFE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6B41-5928-4DFD-AABD-8194196A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A02-4157-4BE1-8E56-E61FD55A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7888-0D25-4372-A0F0-107C7575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2B32-F61D-4DE3-B5D1-631C0882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7BF7-682F-4B6A-92FB-31845CA8AD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53A2-901E-4F9B-BB5A-59374D502A6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[Company Name]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esource Requiremen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chnology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sonnel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nancial, distribution, promotion, et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ternal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ducts/services/technology required to be purchased outside company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isks &amp; Rewa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risks of proposed projec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ressing ris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marize how risks will be addresse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war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timate expected pay-off, particularly if seeking fund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ar ter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olate key decisions and issues that need immediate or near-term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ng ter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solate issues needing long-term resolu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consequences of decision postpon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f you are seeking funding, state specific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ssion Statemen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clear statement of your company’s long-term mission.  Try to use words that will help direct the growth of your company, but be as concise as possibl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Tea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st CEO and key management by na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lude previous accomplishments to show these are people with a record of suc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number of years of experience in this fiel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arket Summa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ket: past, present, &amp; futur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iew those changes in market share, leadership, players, market shifts, costs, pricing, or competition that provide the opportunity for your company’s succes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portuniti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blems and opportuniti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consumer problems, and define nature of product/service opportunities created by those problem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usiness Concep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key technology, concept or strategy on which your business is ba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pet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mmarize competi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line your company’s competitive advant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oals &amp; 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ve-year go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specific measurable objectiv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market share objecti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tate revenue/profitability objectiv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nancial Pl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igh-level financial plan that defines financial model, pricing assumptions, and reviews yearly expected sales and profits for the next three yea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 several slides to cover this material appropriatel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02:25:53Z</dcterms:created>
  <dc:creator>Terry Fullerton</dc:creator>
  <dc:description/>
  <dc:language>en-US</dc:language>
  <cp:lastModifiedBy>Terry</cp:lastModifiedBy>
  <dcterms:modified xsi:type="dcterms:W3CDTF">2012-09-15T22:48:09Z</dcterms:modified>
  <cp:revision>1</cp:revision>
  <dc:subject/>
  <dc:title>[Company Name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